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6D3DBA-DA1C-41F7-8D62-AC4D31F7E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53648E-81F8-4B65-A674-EF90E2915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F37EE3-9E32-475B-835B-1BC3E314D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6A795B-12F1-490F-9F1E-C66C805ED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1DF60-970B-46F6-ABFF-913C5E3F1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2B4FA-D630-4F7D-B890-D04C37249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BA9AD-BA00-46A3-BAA9-30F2C92E8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FBE30-9634-4973-A264-41A5F3D92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AA515-115B-4A7C-8C97-AD97CE4E5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00368-E856-4362-940D-A9F52C8B1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94511-AECE-434D-A8AF-2BDAEE4FA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83CA52-1D07-4FEA-A352-1B0383DB1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F74C5-A657-4B72-B3CB-C72B5D97E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5EC3D-86E2-4BE7-8A2C-74E92742B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361B1-F900-49C1-A454-7FCB0F62B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F2B4A-1B5D-4616-9BCA-9B3B94A7C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A4F95-A792-43BB-B03B-12A962E98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44CBB9-2BA9-4A87-A1AA-F55C94529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BB00F1-A336-4AD0-91D6-16CAD662E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9F8096-02FA-47DB-ACDC-C90166303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05D463-F345-4242-9FB5-26C0354E9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1FF013-C68D-4F60-905B-ADE2B67BD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257C8B-C69E-4851-9061-00C2F4838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7CB0ED-2BD1-43F3-B72F-BCE0297B0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05931-9473-48A5-B171-5A3D7FB186A9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B7D85-145F-44D3-9815-E60E3DCD400E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-252360" y="1445400"/>
            <a:ext cx="95774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25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35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5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1.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Както вечер сенки падат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ъй, човече, на грях роб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илите ти веч отпадат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 смъртта те води в гроб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1/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-541440" y="1443960"/>
            <a:ext cx="100821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пев: 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али си готов? Дали си готов? Божий Дух те вика със любов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али си готов? Дали си готов? Вслушай се във тоз небесен зов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-541440" y="1627200"/>
            <a:ext cx="1008216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2.</a:t>
            </a:r>
            <a:r>
              <a:rPr b="1" i="1" lang="bg-BG" sz="4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400" spc="-1" strike="noStrike">
                <a:solidFill>
                  <a:srgbClr val="ffffff"/>
                </a:solidFill>
                <a:latin typeface="Arial"/>
                <a:ea typeface="Arial"/>
              </a:rPr>
              <a:t>Ей, тръба се чува вече,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Arial"/>
                <a:ea typeface="Arial"/>
              </a:rPr>
              <a:t>почва се световний съд!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Arial"/>
                <a:ea typeface="Arial"/>
              </a:rPr>
              <a:t>Дай ухо ти, о, човече,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Arial"/>
                <a:ea typeface="Arial"/>
              </a:rPr>
              <a:t>тъй ще стигнеш в вечний кът!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/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-541440" y="1443960"/>
            <a:ext cx="100821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пев: 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али си готов? Дали си готов? Божий Дух те вика със любов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али си готов? Дали си готов? Вслушай се във тоз небесен зов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-252360" y="1501200"/>
            <a:ext cx="95774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Бъди над грях победител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 живей със Бога в мир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ъй със милия Спасител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ще си на небесен пир!</a:t>
            </a:r>
            <a:r>
              <a:rPr b="0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3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/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-541440" y="1443960"/>
            <a:ext cx="100821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пев: 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али си готов? Дали си готов? Божий Дух те вика със любов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али си готов? Дали си готов? Вслушай се във тоз небесен зов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-252360" y="1501200"/>
            <a:ext cx="95774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4. Обич нежна и спасение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ощ' предлага Бог на нас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е отпадай в изкушение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 трудния за тебе час!</a:t>
            </a:r>
            <a:r>
              <a:rPr b="0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4/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-541440" y="1443960"/>
            <a:ext cx="100821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пев: 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али си готов? Дали си готов? Божий Дух те вика със любов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али си готов? Дали си готов? Вслушай се във тоз небесен зов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09-11-28T09:26:56Z</dcterms:modified>
  <cp:revision>187</cp:revision>
  <dc:subject/>
  <dc:title>Slide 1</dc:title>
</cp:coreProperties>
</file>